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8EE-D641-4044-88DA-E3E52F59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031-199D-4EF6-82EA-CCF0E76E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0A4-4436-46E6-922F-83CC1CF6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BB3-4103-484C-AE19-BB8F95E2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ADE1-30FB-434A-9A1E-24DC6755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CE16-BB90-49AD-9539-6D98EABA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FA6A-DA87-45E8-BA49-8A7E07C9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F55B-42AA-4FE2-9E65-2E1AC597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76C4-B635-450A-A690-C04EA702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5DAB-C3F3-4174-B33F-79F4CE4F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0EDC-97F5-40A5-90DD-D268134B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A13-4CBA-4200-BCA9-88EEA5B6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F79C-B741-4FFF-8F0F-561E5B2E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7FBB-3C8E-4344-A3EC-5E2FB51B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E141-5AB0-4098-BBDE-2636FB11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EC51-DD1B-4A18-8B5C-8F35A565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271A-7C79-40A5-AC52-4B9B4FA9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982-3106-4352-AC71-4C31BCE0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D55-D6EA-48ED-AFA5-19733A35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AB7-1302-4195-82FD-107AF779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FB9-C392-4AE6-9758-16134BCB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D7A-1027-443D-9CA9-FB0584D5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4B8E-D3C2-43CC-A6CE-84A2F52E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906-288D-49DC-B45F-F8803469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C68D-FE91-440E-8A73-D5251BB8702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0252-7695-42D7-B03C-266AC503423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prah.com/article/spirit/inspiration/20080929_oaf_oss_dpink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resentationzen.blogs.com/.shared/image.html?/photos/uncategorized/aptitude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Meet Daniel Pin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943600"/>
            <a:ext cx="914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atch Oprah’s interview with Daniel P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362320" y="1143000"/>
            <a:ext cx="40734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4120" y="1371240"/>
            <a:ext cx="35049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29200" y="28951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ing humo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ght-heartedn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-71280" y="0"/>
            <a:ext cx="50241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AN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6171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eate purpose and fulfill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7712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Aptitud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143000"/>
            <a:ext cx="62625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 Are Entering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66680" y="5257800"/>
            <a:ext cx="678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55627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CONCEPTUAL 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42800" y="824040"/>
            <a:ext cx="8258400" cy="5209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28760" y="2058480"/>
            <a:ext cx="666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ving from a society built on log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near, computer-like capabilities of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on Age to an economy and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ciety built o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pathe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ven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g pic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pabilities of the conceptual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7621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We are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365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2280" y="533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 Fundamental Aptitudes for the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Verdana"/>
              </a:rPr>
              <a:t>Creat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auty and emo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76360" y="2511360"/>
            <a:ext cx="6372360" cy="388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Verdana"/>
              </a:rPr>
              <a:t>Create compelling narrativ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4876920" cy="404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YMPHONY</a:t>
            </a:r>
            <a:br>
              <a:rPr sz="4000"/>
            </a:br>
            <a:br>
              <a:rPr sz="24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reate part to who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MPAT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erstand human nature, engage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motion and intui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3162240" cy="4219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23:13:20Z</dcterms:created>
  <dc:creator> Judy Leff</dc:creator>
  <dc:description/>
  <dc:language>en-US</dc:language>
  <cp:lastModifiedBy> Judy Leff</cp:lastModifiedBy>
  <dcterms:modified xsi:type="dcterms:W3CDTF">2009-09-10T02:38:39Z</dcterms:modified>
  <cp:revision>27</cp:revision>
  <dc:subject/>
  <dc:title>Meet Daniel Pink</dc:title>
</cp:coreProperties>
</file>